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AE99D-435F-49E0-9AF3-EEB8EA6B1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6A703-F87D-4779-A710-BE2C96ED4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3618F-AD24-4CCA-9C47-FDA648BF2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73442-A9E6-4D38-BCD1-BD1E6E57A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6F06-D2C8-4E05-B6AB-CB0A878D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5F2A-1450-4554-A3BA-FBF765F7B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5218C-FCA5-4CC4-86B5-76F563C6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DF15-0240-4BF3-AE49-A375D6B42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EFD3A-9F1D-4643-807F-2DBF88B11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D978-1390-49D9-B06F-FCA5D93BC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587D-A084-4336-9235-BD927DA4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4FAD-73FD-40DA-89FF-0F2C64BAB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5EF3-EAAD-452F-9546-53ADFFFBA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19920" y="47242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6705720" y="4495680"/>
            <a:ext cx="2133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n Dins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March 08,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762120" y="990720"/>
            <a:ext cx="655308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Lost In the Jungle </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With Some Beasts</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4" name=""/>
          <p:cNvSpPr/>
          <p:nvPr/>
        </p:nvSpPr>
        <p:spPr>
          <a:xfrm>
            <a:off x="380880" y="464832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story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n A. Dins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228600"/>
            <a:ext cx="8763120" cy="5209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one point in time, there was a land not too far from the Bahamas. It was a small island, and a hot one indeed. On this island called Davemilin, there wasn’t much human life but it was filled with all types of animals. There was one tiny village  by the name of Pinawanna. If you live in the village, you NEVER left. The only people to leave were the hunters and THEY only left to go get food and fresh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is village of Pinawanna, there were three trouble makers. There names were Dave, Emily, and Justin. They were best friends and went everywhere. One day Justin had an id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Hey guys, lets go expl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at sounds like a bad idea,” replied E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 was always the safe one out of the thr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ck it up ya baby! Lets go!” screamed D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three friends set off to explore the outer limits. Hey had no idea what they were getting i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38088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alking around and exploring for a few hours, Emily, Dave, and Justin decided to turn back and go home. The only problem was, they didn’t know which way was b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uys! Where do we go? I’m starting to get worried,” cried E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Don’t worry, we’ll find a way,” replied D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y walked and walked for several h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0:14:42Z</dcterms:created>
  <dc:creator>install</dc:creator>
  <dc:description/>
  <dc:language>en-US</dc:language>
  <cp:lastModifiedBy>install</cp:lastModifiedBy>
  <dcterms:modified xsi:type="dcterms:W3CDTF">2010-03-10T20:19:46Z</dcterms:modified>
  <cp:revision>6</cp:revision>
  <dc:subject/>
  <dc:title>Slide 1</dc:title>
</cp:coreProperties>
</file>